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18C2-E668-47F0-8563-18B38244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588-A16C-48F0-ADCD-EA2C5C87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C357-8E24-4F02-9ABB-2851D9F6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74DF-8C4D-4465-AFF3-E16B5CFC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390-607A-49E7-B14F-FB55872F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CC2F-87FC-4B12-96C4-34E7552C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461A-34A0-4A95-8FE5-94C152BF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55D-582C-4435-A487-134B8C7F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5941-373C-43EB-A688-9801E558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980-E09A-4C18-A62B-359C28B9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5872-1579-493D-94FC-41BF6E2C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2901-CC97-4F15-BEEA-6368804E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C5B7-0E2F-426B-BD4E-BB2ADB8C1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627" t="0" r="11874" b="5999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5:31:42Z</dcterms:created>
  <dc:creator>za04499</dc:creator>
  <dc:description/>
  <dc:language>en-US</dc:language>
  <cp:lastModifiedBy>za04499</cp:lastModifiedBy>
  <dcterms:modified xsi:type="dcterms:W3CDTF">2009-02-25T15:33:29Z</dcterms:modified>
  <cp:revision>2</cp:revision>
  <dc:subject/>
  <dc:title>Slide 1</dc:title>
</cp:coreProperties>
</file>